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98623"/>
        <c:axId val="94109414"/>
      </c:barChart>
      <c:catAx>
        <c:axId val="49698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09414"/>
        <c:crosses val="autoZero"/>
        <c:auto val="1"/>
        <c:lblAlgn val="ctr"/>
        <c:lblOffset val="100"/>
        <c:noMultiLvlLbl val="0"/>
      </c:catAx>
      <c:valAx>
        <c:axId val="94109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98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B03-8CA4-4D0C-9281-E49F9D09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C39-85C2-4E6D-ADF6-95521274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C2E-61C9-4574-BB54-1BCC9F71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4C9-868E-4933-998D-EC5C3839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34B-2F86-4AE4-8B03-44D5666E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585-1AC7-4AA3-BA4C-6A4B6F8B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748-CE26-414F-8D3D-56935A10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18A-F923-4592-BCAD-1EB74C41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685-DD28-4F87-95BF-44AFEBAF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6018-01D4-414C-AB8E-569898A1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76A-3B8F-4C85-BC4D-8774ABC3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A85-BEAD-45A3-B1AE-90F34FB9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BAA73-9D98-44B3-AE62-BA3BDA0F20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