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09043"/>
        <c:axId val="60892169"/>
      </c:barChart>
      <c:catAx>
        <c:axId val="51909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92169"/>
        <c:crosses val="autoZero"/>
        <c:auto val="1"/>
        <c:lblAlgn val="ctr"/>
        <c:lblOffset val="100"/>
        <c:noMultiLvlLbl val="0"/>
      </c:catAx>
      <c:valAx>
        <c:axId val="60892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09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D61-C826-47DA-AD79-CAA18C7F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E58-71D1-40A1-8FFF-DAC5595D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E12-71C8-49BB-8BA0-D1CE3483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00F-E2DF-40DC-A90B-310B0F7A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EF8-CA5C-4F00-A09B-873E35B9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29F-4C34-4C93-839A-529C40D7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9FB-E7BF-43B1-8BAD-417F7D21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850-9AF1-4461-BBF0-E020D109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495-B127-46C6-BD99-F1E7E4FA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2F7-5576-4942-8630-F8FCEB92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7C3-9481-4F94-AD8C-3CA7B827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B15-F667-415C-A299-DBA51472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9E193-546E-4206-9191-ECA7D2C4CF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