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40452"/>
        <c:axId val="52127209"/>
      </c:barChart>
      <c:catAx>
        <c:axId val="66940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7209"/>
        <c:crosses val="autoZero"/>
        <c:auto val="1"/>
        <c:lblAlgn val="ctr"/>
        <c:lblOffset val="100"/>
        <c:noMultiLvlLbl val="0"/>
      </c:catAx>
      <c:valAx>
        <c:axId val="52127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0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9FC-DAF3-4DB6-8724-B952B54A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26C-7314-4B8C-8CEF-646027B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96B-D195-47DC-A3D9-7261AC0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D46-85F0-4960-9009-4391AF08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B43-4F3F-4EAA-A7E6-A9D14699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046-C25E-4B22-A0B7-D96A585A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234-C592-4B3F-B307-34561B4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0E4-CBF3-470B-AD39-5275FA5D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230-AC2A-4BEE-85D9-CBC1632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67A-B1FB-4EF1-BFC3-03C1FC2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B70-C179-4772-8D69-A2F92A1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93C-3553-4258-93A4-EAA59AB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4517-66D0-4331-9D7C-D05201DBE1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