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046738"/>
        <c:axId val="54275776"/>
      </c:barChart>
      <c:catAx>
        <c:axId val="34046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75776"/>
        <c:crosses val="autoZero"/>
        <c:auto val="1"/>
        <c:lblAlgn val="ctr"/>
        <c:lblOffset val="100"/>
        <c:noMultiLvlLbl val="0"/>
      </c:catAx>
      <c:valAx>
        <c:axId val="542757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46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288-B259-4708-A026-133D48E9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6AE4-9882-4554-B45F-86AC8448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BF01-6B6B-4169-BEAF-D377DF94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A438-A553-40D8-925B-F69AB0D7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A87-3D3C-4490-9DA0-70437318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026-D0E9-41A3-8379-E757A2B6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81D7-A8BF-4567-BDC5-BFF0F190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5173-D65F-4CDB-939D-8813E03C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419-A3D6-4B6E-ACDD-0AC83A56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AEE-1E2D-45F5-AB63-E1799261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9F48-3AE1-4EB1-8B31-39584FF1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66F-4701-4223-A133-D2DA498B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66145-B90D-45D9-BC2C-F7F10AD143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